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083-E845-481F-A7F8-BEA91CEF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8EE-EC35-416E-A55A-FF15F1BC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D4B04-0694-464A-9205-B779FC56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9989A-FD55-4484-87F7-7420EFDD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E9494-E005-4884-BFF6-8DCFED40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2DC4-1B39-4115-B18D-5F72493D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9FAF-35F1-4883-BE75-96A5CE9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3763B-39E0-4472-8046-37D42EB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980AB-A905-4B32-BCED-5C9DFCF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3EACE-526C-4750-91AF-094E5FC8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36FCA-BDA9-4FFB-8574-5A28C16C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9E0-5EBB-4422-B5D8-CDEF50D5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3D1-35EA-4DEC-BB19-75DD135B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6E7B-8F39-4F2F-98DC-6177DDB7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05D1-3E24-415D-A5F1-DD69EC7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442E-8F68-4674-892D-29237534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21AA-995C-4AF2-8921-716B1C3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623C-2963-4644-A6FB-F4A69659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18D6-8EBF-4F34-864F-5746B66F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0653-A818-4097-B91B-4A6D016F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BB1-38D2-48DB-B579-6B97C1A3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39D-EA56-445D-A862-BFEEC2E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96B9-65DE-4E7D-94A7-5BAA6D8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5BED-32CF-4138-BEB6-11CF3874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84A2-7668-4D69-BD3A-B5E80444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8797-CC53-42AC-83B3-6BD66BAB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0B50-EC35-436F-8866-94D8D841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91D3-2555-4EF6-92ED-E79F0C5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8CEC-C8C6-4E3F-976D-75473028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3B43-9CF2-4DD3-9D45-3CC7C3A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F1E5-0434-4B0A-A251-D6F68842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130-C844-4000-932C-EDBDD8E8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9EF0-7C63-4C3A-8564-B45FB907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4B3A-EDD0-4014-906D-17B8CBF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4592-0541-4E48-B040-67903A2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D8EF-192E-4B0C-AE3A-DFE825A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E935-E90D-47E9-89A7-2B2008E4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9D4E-543D-491E-891D-37C00668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A9A2-FF73-4AE4-8FC4-259FC450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E887-04F5-4A90-8B4C-1D0BFF87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D2D1-DBA4-44F8-9736-45440E15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8115-4F92-4CBB-AC5E-134EE979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300-C9BF-44D9-B52B-F313587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811A-17D0-4582-AF7C-A4348557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A124-C059-4BD5-A377-E522FA1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D036-5DE6-45B0-8214-82A00E3D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46A2-8E5E-42D8-9C2C-BE92E333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51B5-D38E-4D46-8A55-5ED948AB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7E62-6E2C-4339-B486-003F162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B4F6-668E-4135-9C04-860A2D78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8746-469B-4BB0-91FD-DAFDAA5A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B229-56A8-4B42-93C2-40C4A761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AC0D-DA7D-477D-8991-DD4DF3D3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C45-E0A2-4E53-A233-E5A0749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D86D-B775-4F99-97E2-E9C2E7E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DFBD-D55C-4E21-93E9-F1CC7733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506F-0EFB-4439-BCE6-E06312BA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F418-E5CA-45E1-9881-9F08D3FF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B2CC-6174-4E52-AFBA-726DC9AE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D348-4808-4D33-B13C-5D07D08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B641-61F3-4963-B622-9375BF9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D4018-A187-4A27-B217-35D76CF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A38B-E358-4E16-8E16-748F9239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D05A7-C409-4888-9E60-446CC439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277-FBB3-4BCA-AB9F-245E2D71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CA36-6016-4AE4-8D1E-9EEB0EC4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A644-81E2-4906-B78E-820F8446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CEC7-8AD4-42B4-AD3E-2AAEE1E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50A1-3024-47DE-9AD9-8D316B57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3FD6-0FB3-4533-AB24-5754738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29C1-7283-4413-BA90-87286107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365B-95EF-442B-B9FC-3424D2B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E0A09-917C-4E59-AE85-26D011A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7053-F02D-4065-8577-60F854F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CE00-EE0E-44EB-9765-DCC36118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C85-9B6F-4A97-8428-7C24398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11DC-9406-4B3A-8FED-59FF6B61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7179-F15A-4C67-817C-E0627D11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E929-E9FE-4055-83A1-352885AA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97CD-6852-4FF2-93DB-206F9C26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EF1D-9D57-485B-B019-CB2EC9F6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4D93-6CB8-4416-AF5A-497540D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9B44-6429-4B2E-ADA9-EE2855A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B1B5-B121-402D-9146-4D9968B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8EDD-3702-48FD-8B90-10D99845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6352-DF2D-43F5-BB39-D524941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747-2634-4341-9CD2-16EB59F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6CB2-93D3-42C5-84EB-4FB5E979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728EF-D154-4C3F-9EE4-6CA6E3C7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048C-CECE-4D77-844A-73E1A19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13919-D331-4925-A6DA-3E937BC2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0D2A2-9C95-41FE-BB3A-F2105C1B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A3C2F-58FA-4899-B456-F3B08E0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A6F20-EDFE-4875-9253-D9E8D2F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F9D9-8354-423A-B49B-3BEE071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8D155-C0F8-44C6-A324-1245B851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6F3F-2399-4F48-BFE6-E1BC8365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0D4-74CF-4929-B26B-6E3B9D0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6F122-CEF4-4B06-B338-BBF85F8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EC5B-C269-4949-A97B-49B9C1F6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F1E4-8028-468B-97AD-02F8E10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5B5E-F11F-4159-889A-D44968E1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BCBDF-C167-4BC5-B7D5-00BC7EA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A915-9679-43D6-8A54-1BF32C5D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8EBA-0663-4AC7-8543-35346EDA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D90CF-9F68-4343-876F-DC5E3095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5C175-9AC8-4A17-85B6-3D7236B4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F2499-70B6-4644-8CA8-9FEEB07C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92F5-DF4C-424A-A652-113E659148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A5E-9BFD-48D0-A46F-5B3E4E3721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413-71C2-454F-85E8-454D3627BF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54D1-8D1C-49BE-9565-C7B37E336D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5B12-0C25-4791-B186-A53E95B345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4252-4DAC-457F-AD35-957A77746A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667B-1155-41A9-ACAA-F33936184C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9A63-7D54-4BA8-8685-FCB6CA4C22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DC8E-2567-4815-A6F8-3AA8299A1E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emical Names and Formu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 9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Ionic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ntransition metal cations named as elemen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nmetal anions end in –id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olyatomic ions usually end in –ate or –i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ceptions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and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: Table 9.3 p. 25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f anion is polyatomic, name normally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= calcium sulfat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f anion is monatomic, add –ide at end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(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= calcium chlorid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Stock System- transition metal ion char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me metals can exist in several forms (Ex: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emical formula used to decide which ion is present (Ex: 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must be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en naming the ion the charge number is represented in roman numerals in parenthesis following the element  name  (Ex: copper (II) chloride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13800" indent="-6138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**  This is only done for elements that can have more than one possible charge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Writing Formulas 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of Molecular Compounds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ing Formulas (Example: Carbon Dioxid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metall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element first (Ex: carbon before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e symbols for each element next to one another (Ex: C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 subscripts to relate number of each atom in the molecule (Ex: </a:t>
            </a:r>
            <a:r>
              <a:rPr b="1" lang="en-US" sz="2400" spc="-1" strike="noStrike">
                <a:solidFill>
                  <a:srgbClr val="7030a0"/>
                </a:solidFill>
                <a:latin typeface="Perpetua"/>
              </a:rPr>
              <a:t>CO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eek Prefixes- KNOW: Table 9.4 p. 269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ming Molecular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ming Binary Molecular Compounds (Ex: 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me in order appearing in formula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Ex: sulfur oxyge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ace ending of last element with -ide (Ex: sulfur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 prefixes to indicate number of each atom in molecule (Ex: </a:t>
            </a:r>
            <a:r>
              <a:rPr b="1" lang="en-US" sz="2400" spc="-1" strike="noStrike">
                <a:solidFill>
                  <a:srgbClr val="7030a0"/>
                </a:solidFill>
                <a:latin typeface="Perpetua"/>
              </a:rPr>
              <a:t>sulfur trioxi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Note: mono is dropped if there is only one of the first atom.  It is used if there is only one of the second ato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941760" indent="-525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ids- form hydronium ions in water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41760" indent="-525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inary Acids contain H and one non-metal  (HCl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90160" indent="-525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ames of binary acids always begin with hydro and are completed by dropping the ending of the nonmetal and adding  -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9016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Cl = Hydrochloric Aci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9016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2" name="Picture 5" descr="Acid_med"/>
          <p:cNvPicPr/>
          <p:nvPr/>
        </p:nvPicPr>
        <p:blipFill>
          <a:blip r:embed="rId1"/>
          <a:stretch/>
        </p:blipFill>
        <p:spPr>
          <a:xfrm>
            <a:off x="7620120" y="38088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7"/>
          <p:cNvSpPr/>
          <p:nvPr/>
        </p:nvSpPr>
        <p:spPr>
          <a:xfrm>
            <a:off x="457200" y="3809880"/>
            <a:ext cx="7696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yacids contain H and a polyatomic anion which cont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yacids are named by dropping the –ate or –ite ending from the anion and adding –ic or –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= Hydrogen plus sulfate = 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b2d1f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= Hydrogen plus sulfite = sulfurous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calling the Periodic Tabl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676520"/>
          <a:ext cx="8229600" cy="4525920"/>
        </p:xfrm>
        <a:graphic>
          <a:graphicData uri="http://schemas.openxmlformats.org/drawingml/2006/table">
            <a:tbl>
              <a:tblPr/>
              <a:tblGrid>
                <a:gridCol w="2541600"/>
                <a:gridCol w="1906560"/>
                <a:gridCol w="1844640"/>
                <a:gridCol w="19368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metals (R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l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n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ct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leability/Ductility: hammered/draw to wi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ting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 heat/electricit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Recalling the Periodic Table 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(use chapter 5/6 if needed)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1676520"/>
          <a:ext cx="8229600" cy="4525920"/>
        </p:xfrm>
        <a:graphic>
          <a:graphicData uri="http://schemas.openxmlformats.org/drawingml/2006/table">
            <a:tbl>
              <a:tblPr/>
              <a:tblGrid>
                <a:gridCol w="2541600"/>
                <a:gridCol w="1906560"/>
                <a:gridCol w="1844640"/>
                <a:gridCol w="19368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metals (R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l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n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cept H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d or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r-liqu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ct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f polish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leability/Ductility: hammered/draw to wi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ting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ny &gt; 800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 heat/electricit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w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periodic_colo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eriodic Table Re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240" y="14479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8640" indent="-548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roup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vertical columns within the periodic t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04680" indent="-470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Perpetua"/>
              </a:rPr>
              <a:t>Representative elements</a:t>
            </a: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- group “A” elements (columns1,2, 13-18 or s and p block elements)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lvl="1" marL="904680" indent="-470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Perpetua"/>
              </a:rPr>
              <a:t>Transition metals</a:t>
            </a: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- group “B” elements (columns 3-12 or d block elements).  Also include inner transition elements or f block elements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mportant families of element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lkali Metals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tals in group 1A that form +1 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lkaline Earth Metal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metals in group 2A that form +2 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Haloge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nonmetals in group 7A that form -1 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1960" indent="-4158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Noble gas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Nonmetals located in far right column that are generally nonreac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toms vs. 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3733920"/>
            <a:ext cx="8991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NEUTRAL species with equal number of protons and electr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CHARGED species with unequal number of protons and electr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(+) ion [lost electron(s)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(-) ion [gained electron(s)]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3" name="Picture 8" descr="atom_ion_na"/>
          <p:cNvPicPr/>
          <p:nvPr/>
        </p:nvPicPr>
        <p:blipFill>
          <a:blip r:embed="rId1"/>
          <a:stretch/>
        </p:blipFill>
        <p:spPr>
          <a:xfrm>
            <a:off x="3733920" y="609480"/>
            <a:ext cx="29336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ound- collection of atoms that is NEUTRAL over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Molecular compound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osed of nonmet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onic compou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composed of cations and anions (metal ions and nonmetal ions) in a crystal latt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6" name="Picture 5" descr="nacl1"/>
          <p:cNvPicPr/>
          <p:nvPr/>
        </p:nvPicPr>
        <p:blipFill>
          <a:blip r:embed="rId1"/>
          <a:stretch/>
        </p:blipFill>
        <p:spPr>
          <a:xfrm>
            <a:off x="1447920" y="3886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compounds_molecules"/>
          <p:cNvPicPr/>
          <p:nvPr/>
        </p:nvPicPr>
        <p:blipFill>
          <a:blip r:embed="rId2"/>
          <a:stretch/>
        </p:blipFill>
        <p:spPr>
          <a:xfrm>
            <a:off x="4343400" y="3809880"/>
            <a:ext cx="39625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erpreting Chemical Formul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preting Formul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Molecular formul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indicates type and amount of each atom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Diatomic molecul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Br I N Cl H O F exist as two atom molecules when ALONE!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Example: 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Formula uni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lowest ratio of ions in an ionic compound (so that charge is zer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35000" indent="-5778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tio of Atoms in a Comp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Definite Propor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409760" indent="-4953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Multiple Proportions (Examples: 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riting Formulas of Ionic Compound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5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20280" indent="-6202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ing Formulas of Ionic Compounds  (Ex: sodium 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20280" indent="-620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dentify charge on metal and nonmetal ions- (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riss-cross superscripts to balance charge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eck if total formula has 0 charg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2  Na ions @ +1) + (1 O ion @ -2) = 0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e answer with subscripts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72720" indent="-542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Note: Polyatomic (many atom) ions are written same except parenthesis are put around them if subscripts are ad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29400" indent="-543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:  Magnesium hydroxi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29400" indent="-543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+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=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15:10Z</dcterms:created>
  <dc:creator>udsd</dc:creator>
  <dc:description/>
  <dc:language>en-US</dc:language>
  <cp:lastModifiedBy>dpav</cp:lastModifiedBy>
  <dcterms:modified xsi:type="dcterms:W3CDTF">2011-12-23T16:36:05Z</dcterms:modified>
  <cp:revision>20</cp:revision>
  <dc:subject/>
  <dc:title>Chapter 5</dc:title>
</cp:coreProperties>
</file>